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86E5-877A-408F-BB78-F26FC9245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55F0-CA12-4330-9C9B-5DCB44932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6EBC-E57A-4D5F-B1F6-0706D36E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51E5-67B3-49F6-B8E5-F8661F58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B15A8-BB84-4625-B71D-733309A6A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E1C5-12B5-4F16-82C2-5456439C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0443E-E1CB-4870-9862-AEFC7F88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415A-7E16-48D3-A5C9-4C2B0C48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36EC-0562-435C-9404-2E63B023A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74B54-BFE4-4BDE-A23F-4041B12AE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3917-0FCA-40A2-A84B-2AB2D19FD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C757-2DC9-4FFC-8922-F6FF0017D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D51F-6E29-47C3-82DF-1B577C4A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2A2B5-2456-4A34-BD9C-F7AA46512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449C-871A-4FC0-9D59-74740902C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F98D6-CBFE-4571-B215-8909AEAB1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06465-9DB5-455C-95A5-7442C5023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EC35-276C-451A-BFEA-9F13DCCB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450C-B510-4FBB-BB48-6C95151E8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9B78-C45B-46F2-85F6-3EC86455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1A01-BBD6-4CC7-9BF3-4ED24401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C873-141A-4625-8DD8-83539754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087-8029-4519-A04B-A52D8091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D451-0F6D-4E18-AB61-DBD2674C5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8B773-DAD8-4688-984C-7D1986A6D7F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7A62-ECD8-42A9-BCF2-7AA80217C31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2560" y="62856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СИСТЕМА ГАРАНТИРОВАННОЙ ДОСТАВКИ СООБЩЕНИЙ </a:t>
            </a:r>
            <a:br>
              <a:rPr sz="3200"/>
            </a:br>
            <a:r>
              <a:rPr b="1" lang="ru-RU" sz="3200" spc="-1" strike="noStrike">
                <a:solidFill>
                  <a:srgbClr val="eaeaea"/>
                </a:solidFill>
                <a:latin typeface="Garamond"/>
              </a:rPr>
              <a:t>ВЕРСИИ 3</a:t>
            </a:r>
            <a:r>
              <a:rPr b="1" lang="ru-RU" sz="2800" spc="-1" strike="noStrike">
                <a:solidFill>
                  <a:srgbClr val="eaeaea"/>
                </a:solidFill>
                <a:latin typeface="Tahoma"/>
              </a:rPr>
              <a:t>  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971640" y="3284280"/>
            <a:ext cx="717696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Клиентское приложение СГДС 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89000"/>
            <a:ext cx="1403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Мониторинг  клиента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3" name=""/>
          <p:cNvSpPr/>
          <p:nvPr/>
        </p:nvSpPr>
        <p:spPr>
          <a:xfrm>
            <a:off x="1979640" y="9079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 «Соединение»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767640" cy="44784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79280" y="189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5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250040" cy="10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Криптосистем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16000" y="1413000"/>
            <a:ext cx="7201080" cy="47592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8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Garamond"/>
              </a:rPr>
              <a:t>Вкладка «Хранилища»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7129440" cy="4711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79280" y="18900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aramond"/>
              </a:rPr>
              <a:t>Вкладка 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«Прокси»</a:t>
            </a:r>
            <a:br>
              <a:rPr sz="3200"/>
            </a:b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476360" y="1268280"/>
            <a:ext cx="6912000" cy="4564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1890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71280" y="0"/>
            <a:ext cx="7543800" cy="11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Журналы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258920" y="1700280"/>
            <a:ext cx="7056360" cy="466236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79280" y="189000"/>
            <a:ext cx="13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Общие»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403280" y="1484280"/>
            <a:ext cx="6985080" cy="462744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18900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Вкладка «Помощь»</a:t>
            </a: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179280" y="189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1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692360" y="1989000"/>
            <a:ext cx="621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3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Инсталляция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905440" cy="44319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652932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Сведения о пользовател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476360" y="1557360"/>
            <a:ext cx="6408720" cy="47800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79280" y="189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46604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вида установки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476360" y="1700280"/>
            <a:ext cx="6264360" cy="46846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1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папки установки СГДС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79280" y="18900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3708360" y="2852640"/>
            <a:ext cx="3086280" cy="2952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1835280" y="1628640"/>
            <a:ext cx="612144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Выбор компонентов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547640" y="1844640"/>
            <a:ext cx="6266160" cy="46879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79280" y="18900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Программа готова к установке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6193080" cy="4629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79280" y="18900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256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Garamond"/>
              </a:rPr>
              <a:t>Настройка клиентского приложения СГДС 3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18920" y="4724280"/>
            <a:ext cx="583236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Зеленый – установлено соедин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826920" y="3573360"/>
            <a:ext cx="314640" cy="3715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826920" y="4797360"/>
            <a:ext cx="276480" cy="3142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79280" y="189000"/>
            <a:ext cx="18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2920" y="1700280"/>
            <a:ext cx="74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Цвет значка (пиктограммы)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SMonitor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ГДС 3 может быть двух цвет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3500280"/>
            <a:ext cx="54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Желтый – соединение разорвано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2" dur="2000" fill="hold"/>
                                        <p:tgtEl>
                                          <p:spTgt spid="13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37" dur="2000" fill="hold"/>
                                        <p:tgtEl>
                                          <p:spTgt spid="13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4" dur="1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Tahoma"/>
              </a:rPr>
              <a:t>Запуск службы мониторинга СГДС 3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5616720" cy="2435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189000"/>
            <a:ext cx="14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лайд 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6T11:16:32Z</dcterms:created>
  <dc:creator>ivan</dc:creator>
  <dc:description/>
  <dc:language>en-US</dc:language>
  <cp:lastModifiedBy>AdministratorNat</cp:lastModifiedBy>
  <dcterms:modified xsi:type="dcterms:W3CDTF">2006-08-22T04:52:43Z</dcterms:modified>
  <cp:revision>10</cp:revision>
  <dc:subject/>
  <dc:title>«СИСТЕМА ГАРАНТИРОВАННОЙ ДОСТАВКИ СООБЩЕНИЙ  ВЕРСИИ 3 » </dc:title>
</cp:coreProperties>
</file>