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0008-502C-4EFD-BBB9-3BCFBFE2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50CF-0E4B-4633-8ED3-410B10D9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B736-0D16-4C28-9D5D-82B7228A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3F2A-44A3-41D1-997B-6E16F5ED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09D7-E5F5-4840-AB59-199D5696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2D92-B58B-4701-AD30-BCC5DC9A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B272-E295-40F5-A6F7-FD703332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3776-279D-42EB-AB19-1C17726F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1A2F-B482-4689-B333-3B5820BB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ED55-A46C-4F73-8743-3FC1DB2C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2BEB-41BE-4ED1-BBE4-EC033FB9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58AD-9C10-4629-B21E-A09D2E70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612C-8046-4320-A7AB-DE92422F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5617-55E1-4A39-B640-E1FB93DD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DA1F-5F50-4BF1-B4A2-DA3C5073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50F0-B5AA-45BA-B794-CAD8EF99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C709-3316-4900-A303-445E4252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6B12-BB71-4B06-9A9F-FE47C89E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333-C59E-4DBE-8E02-497F086B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4EAE-C5B7-4A9C-9BF8-CCF628B2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429C-9CA5-4734-BA1D-2FBA14A7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FF6F-CCEF-4733-8ED0-72341FA5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2D09-ECFC-40EF-B0C5-79527013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7370-5BB5-48E8-9AB1-41A56E3B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0015-8710-4622-9B3E-22573520F3A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CAD2-31FF-433E-9080-EF1933562AB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6285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Garamond"/>
              </a:rPr>
              <a:t>СИСТЕМА ГАРАНТИРОВАННОЙ ДОСТАВКИ СООБЩЕНИЙ 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Garamond"/>
              </a:rPr>
              <a:t>ВЕРСИИ 3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71640" y="3284280"/>
            <a:ext cx="71769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Клиентское приложение СГДС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189000"/>
            <a:ext cx="14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Мониторинг  клиента СГДС 3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979640" y="9079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Вкладка  «Соединен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767640" cy="4478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9280" y="189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2500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Вкладка «Криптосистема»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201080" cy="4759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9280" y="189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Вкладка «Хранилища»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7129440" cy="4711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9280" y="189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Garamond"/>
              </a:rPr>
              <a:t>Вкладка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«Прокси»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912000" cy="4564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9280" y="18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Вкладка «Журналы»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7056360" cy="4662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79280" y="189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Вкладка «Общие»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985080" cy="4627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189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Вкладка «Помощь»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189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621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Инсталляция клиентского приложения СГДС 3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905440" cy="4431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8900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52932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Сведения о пользовател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408720" cy="4780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9280" y="189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466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Выбор вида установк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264360" cy="4684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79280" y="189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Выбор папки установки СГДС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6121440" cy="4578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9280" y="189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708360" y="2852640"/>
            <a:ext cx="3086280" cy="295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835280" y="1628640"/>
            <a:ext cx="612144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Выбор компонентов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266160" cy="4687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9280" y="189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Программа готова к установк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6193080" cy="4629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79280" y="189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Настройка клиентского приложения СГДС 3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18920" y="4724280"/>
            <a:ext cx="58323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Зеленый – установлено соедин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3573360"/>
            <a:ext cx="314640" cy="371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26920" y="4797360"/>
            <a:ext cx="276480" cy="314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79280" y="189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170028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Цвет значка (пиктограммы)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SMonitor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СГДС 3 может быть двух цвет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3500280"/>
            <a:ext cx="54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Желтый – соединение разорван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Запуск службы мониторинга СГДС 3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5616720" cy="2435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9280" y="18900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11:16:32Z</dcterms:created>
  <dc:creator>ivan</dc:creator>
  <dc:description/>
  <dc:language>en-US</dc:language>
  <cp:lastModifiedBy>AdministratorNat</cp:lastModifiedBy>
  <dcterms:modified xsi:type="dcterms:W3CDTF">2006-08-22T04:52:43Z</dcterms:modified>
  <cp:revision>10</cp:revision>
  <dc:subject/>
  <dc:title>«СИСТЕМА ГАРАНТИРОВАННОЙ ДОСТАВКИ СООБЩЕНИЙ  ВЕРСИИ 3 » </dc:title>
</cp:coreProperties>
</file>